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331-70B9-4469-BF90-8301F63F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8F21-428E-47C3-8599-882217B0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F528-B7BA-4D51-A545-7AD241E7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1AF-F2DA-4E10-8C76-5003121A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34E3-9142-45CD-BD2F-393B54E7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7F2A-CC62-4BFA-BB1F-3E89D388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3B5-BFBD-4EC8-B21C-DC091F33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A03-2435-4B6F-A454-4720387A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D988-8980-4382-BE9F-5B2B084F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7A64-AADA-4952-9F09-AA523501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087-B4E5-488E-BD11-167C6744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32C1-0E5C-43BF-9FDB-8C42964E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96D2-DDF0-492E-90BD-077A08EEB11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A561-A846-479F-973C-624C708E58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6640" y="1376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жная карта проек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здание новой модели медицинской организации/, оказывающей первичную медико-санитарную помощь» в «ГБУЗ Кузнецкая межрайонная больница», поликлиника №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76120" y="2093760"/>
          <a:ext cx="8526600" cy="4685040"/>
        </p:xfrm>
        <a:graphic>
          <a:graphicData uri="http://schemas.openxmlformats.org/drawingml/2006/table">
            <a:tbl>
              <a:tblPr/>
              <a:tblGrid>
                <a:gridCol w="293760"/>
                <a:gridCol w="2244600"/>
                <a:gridCol w="489240"/>
                <a:gridCol w="377640"/>
                <a:gridCol w="392040"/>
                <a:gridCol w="384480"/>
                <a:gridCol w="43308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680"/>
                <a:gridCol w="355320"/>
                <a:gridCol w="355680"/>
                <a:gridCol w="355680"/>
              </a:tblGrid>
              <a:tr h="63036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.02-10.02.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-17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2-25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2-03.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.03.-10.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в поликлинике №3 государственном бюджетном учреждении здравоохранения  Кузнецкая межрайонная больница рабочую группу по реализации приоритетного проекта «Создание новой модели медицинской организации, оказывающей первичную медико-санитарную   помощь» на территории поликлиники№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ить лидеров рабочей группы проек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сти анкетирование сотрудников, выбрать ключевые проблемы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ать и провести анкетирование о здоровом образе жи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ить направление проек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ить ТП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ить ориентированную смету расходов на реализацию проек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Заголовок 1"/>
          <p:cNvSpPr/>
          <p:nvPr/>
        </p:nvSpPr>
        <p:spPr>
          <a:xfrm>
            <a:off x="5367240" y="76320"/>
            <a:ext cx="34290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вра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УЗ « Кузнецкая межрайонная больни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Потапов А.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04»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врал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1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5519880" y="176040"/>
            <a:ext cx="3124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26880" y="544680"/>
          <a:ext cx="8431200" cy="3767040"/>
        </p:xfrm>
        <a:graphic>
          <a:graphicData uri="http://schemas.openxmlformats.org/drawingml/2006/table">
            <a:tbl>
              <a:tblPr/>
              <a:tblGrid>
                <a:gridCol w="411480"/>
                <a:gridCol w="2098440"/>
                <a:gridCol w="484200"/>
                <a:gridCol w="372960"/>
                <a:gridCol w="387360"/>
                <a:gridCol w="381240"/>
                <a:gridCol w="423720"/>
                <a:gridCol w="35712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2440"/>
                <a:gridCol w="351000"/>
                <a:gridCol w="350640"/>
              </a:tblGrid>
              <a:tr h="78876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3-22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-30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5-08.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работы членов рабочей группы  по выбранному направле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6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и обсуждение полученных результа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5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ление результатов про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93560" y="5475240"/>
          <a:ext cx="7013880" cy="297000"/>
        </p:xfrm>
        <a:graphic>
          <a:graphicData uri="http://schemas.openxmlformats.org/drawingml/2006/table">
            <a:tbl>
              <a:tblPr/>
              <a:tblGrid>
                <a:gridCol w="7013880"/>
              </a:tblGrid>
              <a:tr h="29700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ководитель проекта                                          зав. поликлиникой   И.В. Архангель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9:01:08Z</dcterms:created>
  <dc:creator>Румянцева Луиза Марсовна</dc:creator>
  <dc:description/>
  <dc:language>en-US</dc:language>
  <cp:lastModifiedBy>user</cp:lastModifiedBy>
  <cp:lastPrinted>2018-01-26T11:59:56Z</cp:lastPrinted>
  <dcterms:modified xsi:type="dcterms:W3CDTF">2019-02-04T13:08:13Z</dcterms:modified>
  <cp:revision>350</cp:revision>
  <dc:subject/>
  <dc:title>Слайд 1</dc:title>
</cp:coreProperties>
</file>